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51D-6E9C-480D-BC7A-881808BC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D5D-BFE4-48AA-9FC8-4F3FFC9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E89-0AA6-4E61-A282-B59857C9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41A-54B3-49C5-B579-AB4921BE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8E3A-70E6-48A4-9010-52EF474F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7D6D-42B8-4692-A7C4-4EA32B1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842-FF31-4056-8A41-AA0B8C80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26A-0465-4DF2-B2F4-6575254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CB34-DF22-4250-B839-08EF039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24D-85E9-49DC-B133-79B1D22D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D779-44D6-4E7B-861E-F352A90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731-1B93-4CD1-8905-9AB3056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D94B-ADBA-4F84-AE61-90C5244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1A5F-34EC-4C8E-A97D-61E62CCB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DB5-E8F5-4FA5-AAF2-880349B0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2A5-9E6B-4465-8FDA-2145B22A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B530-954F-4C61-85F0-BE35F50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6CFA-4BAE-4ACF-814B-C6191D77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25C0-28F3-4070-913D-C91A4F58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DD2B-74FA-49E1-BEAC-2CF013D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C4FE-3D2A-4E61-9D81-DA648DAC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607C-C82A-43C6-8234-10DA4AB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5C8-EDF3-4EC0-938A-4AE6F2B6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2D44-2CED-450D-9BAB-BC913A2E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945A-BCBA-4A82-822C-08BC965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E481-B2FD-408F-A96F-A474DB5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12CD-199E-438C-84DF-F78E26D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2E21-E439-456F-BE15-C590C4C0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7940-045F-47B5-BEC6-3A808CE4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CEE0-70BA-4D94-BAAA-D96CACC1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8C5D-5751-47F2-B368-B6859F37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9604-9970-485C-9794-03CEF5D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EC58-9AF9-4120-B5CB-918C3F3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126-DBD1-4D63-99F4-BF4D28D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235A-CDD4-404C-B735-12F2076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A9E6-E492-486C-B923-799612C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DA4A-1ED5-4F6C-8DCF-D209D68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0D59-3235-4A89-8ED8-31A3840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DA0E-FD14-4D02-8091-CC13795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23A3-42AE-485A-BDEF-D77750B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D77C-04A6-496F-8AAE-C574D0E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6A1D-32EC-46B3-8B4F-04C290AA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CEB6-AA19-4CA0-90A0-983E66A9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5B21-DC25-4DC8-A588-832B74FE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B14-5CEB-44F0-AB3F-FDBE34C2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2F7F-5D5D-4E3E-B5A2-582DB337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6D74F-C329-4BE7-9782-A95393C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464C3-B25B-4948-B446-E6C8E6DA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B685-C7A5-4C52-9722-0D3C453E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EE54-BF37-41AC-A671-7B8AA989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75D5-7E4C-454C-B1A9-A2018BA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2AAC-A21D-40FD-81A2-A1564CE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E95D-17D7-4805-B7C1-4B8600D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7261-B223-414D-A17A-190E4A6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A907-2631-4AEB-8D20-070D6DA1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EA4-4DF0-4DAB-A9AC-A5C20D2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9E4C8-A0ED-47C9-B477-A0B35B71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D655-E32A-4B24-B9C7-24CB3599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3F48D-EF40-44DD-944F-88B39DD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15FA-C60E-414E-B0B0-F95F79E4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C821-9206-4B1B-84E2-6BFCAC5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1E12C-8F90-4D96-AE11-0B5A9CA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32CC-2167-4593-A11C-BDE2A3B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38CE-0C17-440E-B090-F9D4F8D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DFB0-4E4D-4984-9A74-E5E0562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340A-0D4C-46C7-BEF0-233EEFE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1B-E697-400F-9475-CE4BFEA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79B0-890D-4007-80D1-5323A2F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4BB1-5095-40B4-BDD0-20F7C51E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ED43-94AD-46AA-9510-8ADBC2D5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2CB-58C4-4A5F-806D-8E4B56E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F9A-6348-4990-BF37-88FA41B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25080-E64D-4AD2-B6E0-32B9BCA045C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DCEB8-DCE1-4F49-AA1B-B9B304BFFC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B311-14E8-44CE-AD68-0FB4318A710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71B19-78B1-415B-BD62-95EC89C857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F53EB-DFDE-4C3B-9FA3-99D762C3C62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3589D-3D43-42BF-B29E-D6F10579909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58268-9237-4732-A14C-A8630B1C3D7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37BFA-9FD3-4039-8AD9-0E0705E877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3C5C5-6FDE-4CE7-8A90-485393E2CA7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7BE5E-E040-4887-B80D-E3D55BB9D4D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657BC-D9E8-4EFF-85D2-9E9F9F8772E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3DCE-6B4A-402D-8D7D-B8A18BAE1A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dimckenzie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3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7778880" cy="2225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e McKenz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ug 8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genealogy illustrates change with inheritance over a small number of years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2"/>
          <a:srcRect l="0" t="-4450" r="0" b="-4450"/>
          <a:stretch/>
        </p:blipFill>
        <p:spPr>
          <a:xfrm>
            <a:off x="45720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648320" y="1417680"/>
            <a:ext cx="4038480" cy="4157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 a large number years, evolution produces tremendous diversity in forms of lif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 process of descent with modification, the common ancestor of life on Earth gave rise to the fantastic divers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documented in the fossil record and around us to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olution means that humans, oak trees, hummingbirds, and whales all have some common ances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190476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wer points with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o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n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ided Rea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 to make up and stay up-to-date with cl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ervs to communicate with colleagues but they are only two w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activities, games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quia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78880" cy="1146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490040" y="2362320"/>
            <a:ext cx="756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more powerful power points with interactive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reentoasters.com has allowed us to implement U tub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nkab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onnectedness with my students (commun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new techniques and unafraid to try new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other group pages through n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 students to new types of assignments “podcasts” “imovies”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I wanted to develop a Blackboard site but because on 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 put together my yahoo site with unlimited storag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buil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dimckenzie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2"/>
          <a:stretch/>
        </p:blipFill>
        <p:spPr>
          <a:xfrm>
            <a:off x="682560" y="603360"/>
            <a:ext cx="7778880" cy="1225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RUZER 1GB:st_screencast.mov"/>
          <p:cNvPicPr/>
          <p:nvPr/>
        </p:nvPicPr>
        <p:blipFill>
          <a:blip r:embed="rId3"/>
          <a:stretch/>
        </p:blipFill>
        <p:spPr>
          <a:xfrm>
            <a:off x="533520" y="1752480"/>
            <a:ext cx="80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evolution have to do with m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vidence is there for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history of evolu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spcAft>
                <a:spcPts val="42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evolution - changes in gene frequency in a population from one generation to the nex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evolution - the descent of different species from a common ancestor ove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Tit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ution is not simply a matter of change over tim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ees lose their lea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2"/>
          <a:srcRect l="-1724" t="0" r="-1724" b="0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untain ranges rise and erod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724280" y="1417680"/>
            <a:ext cx="39020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8:28:48Z</dcterms:created>
  <dc:creator>College of Education</dc:creator>
  <dc:description/>
  <dc:language>en-US</dc:language>
  <cp:lastModifiedBy>College of Education</cp:lastModifiedBy>
  <dcterms:modified xsi:type="dcterms:W3CDTF">2009-08-08T18:57:33Z</dcterms:modified>
  <cp:revision>4</cp:revision>
  <dc:subject/>
  <dc:title>Evolution</dc:title>
</cp:coreProperties>
</file>